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D8A7-995B-470F-BE59-2999B9376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mailto:reach.grassroots@amsa.org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70FD-A682-49AF-B780-CD97E205D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1F4E-2113-4302-B62E-B3D144999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ilitator should already have an idea of what are the potential needs of the intended audience. Tell the other coordinators/ volunteers what the needs are and how the health fair can address these n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6DA5-4F50-439D-8291-F1864CFCF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objectives and agenda has already been established, go ahead and answer these questions in the sl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0DBD-5E54-4FF4-B951-E92CDE047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CH Grassroots coordinator is Lindsay Martin-Engel,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each.grassroots@amsa.or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She can also put you in contact with REAC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gional coordinat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YOUR region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35E1-6FD1-4CF9-9CA0-012A29E28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nt out the Committees &amp; Leadership guide to talk about responsibilities of each committee and coordinat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1AD5-0EF2-4F58-B815-A240CC9B37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742A-EFFF-4BB7-9D30-C9752251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1094-328D-472D-82EA-566F86CA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2E35-C41B-4082-B7B6-CC9F9E7C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08E-062B-46E1-8D60-B2AD5EA5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1BB6-8509-47BF-8066-D34CCD74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96AA-ADDB-43A0-973A-BE8C72D9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523C-D924-4A15-A9E2-3444F446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5BF7-BB26-4ACC-BD45-A5E03530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6418-F882-4FBB-81FD-1A070924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D045-D0F3-4F38-8BFE-F39CDC0E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8712-800E-4127-A69E-7A339DA9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335-C5DD-4694-984E-B9C04E0A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22D4-EBE4-409A-81C3-70201B93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A609-5EC6-4083-8ADD-7B4485E4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31CA-D93D-4A68-8522-920436ED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E137-A7DB-4B0C-BD25-98790E59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E3C9-3981-4FAE-86B9-D0164C43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1E7B4-ADF1-49F9-A91A-963D3B3A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F7FA2-BAFA-4D8C-9600-4BB7ADF8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9B7C0-491D-4FA0-A33E-4D6D5601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EE20E-4C42-4EA2-9B2D-78F0FF43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F0FF3-5025-44BA-8457-C1D4667B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31B2-F09A-4824-91C8-737767DA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615AD-3C35-48B2-BB68-FD447AF7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F93B5-9784-4792-89B7-25B0E3E3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94021-B299-4023-AFD2-EC006E85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8BDC0-68E9-4211-A63C-603931AD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C7D85-A6AD-4AA1-A4C0-15C208D6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CA3A3-BEBC-4B3B-811C-A480C598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1D179-B9D3-44BE-B965-42FADDAF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421D3-19AA-42CA-98C6-36ECA6FD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64F08-C058-4AA7-A3CD-E7EAB98F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12E93-4997-4558-99E8-A713B744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FDC-38E4-4D2E-9A98-BE853EBC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9AC36-A485-4475-BA8D-29BE1632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CF20F-4B6E-4F79-A3D7-F4E03F08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21C20-19D0-418B-9A83-E73BCE80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5C058-C0D3-47C3-8FF4-8DFC10E8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BB2E0-0593-41F9-890C-3E0573F0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57888-DB95-4963-870D-6B684519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641E9-9778-48BB-B453-D1E9CEB2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8ABE4-0F84-4177-BDBB-C4D17DD3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BCC5E-C2C2-4EFE-9D3E-2CF06607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88CD7-AB5B-41A9-ABBA-71D8170E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44BD-3858-4BFE-9306-744948DF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1D88B-4111-4D32-B2C8-ABF4BB18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328D2-5570-478B-9F2B-07C40281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53CB3-5386-4754-BE14-6D39CA6C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6FDE4-14A2-4163-A517-97480055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12E92-365F-47E6-80AE-A2ACA40A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746F7-C926-40DB-9A26-08A25ADD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24666-E1F4-4ED8-B6D0-4A64DB79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94E46-EB2A-4CA0-ACD1-50F14395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56DEE-991B-4842-B4CE-008FA731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E5941-315C-4B8C-A3C7-B8D148EA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B35-2E6C-458F-A2B3-97BF6100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5E302-8809-41E5-8D8A-E53B28D7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F2351-297C-421E-8E19-0CC8B930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A300E-FDC1-4273-A465-C0C4B5CC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5D60B-0717-44A5-9332-305169F8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6F211-7A6F-46C3-9E34-8A23E160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97F33-08CA-4A14-BBDE-A0CE423C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446A1-FE07-4D3E-9E8E-BFF02736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7ACA8-D4D4-42B1-A6CB-B565E0DD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9B616-67F2-4F22-9764-7EAB344B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DEE85-4206-4011-A12F-282E6ED4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4DFB-D9F1-4B61-8AE3-C20AD87B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7EDBA-8F94-4603-8B5B-E117B5E6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8AD4A-D8D7-4C6D-9ED9-DC63C01A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611B2-EBB4-4443-A703-69D3BBEB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5D89-7E0A-489B-AB27-A753515B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16B9-8ED6-464E-8B82-8329A0D0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8150-0789-4AB4-81D8-47873BD6E5D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20AE-4033-43ED-B7B4-37D19E90590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7211-CB33-4485-86A4-B45D5A693D5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CA59-ED75-4333-A27C-74EFF517D82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C5CE-9450-4025-9281-D77C8BE73DD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7C38-89DE-43D6-8F47-88A8364DC2F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-990720" y="3504960"/>
            <a:ext cx="7772400" cy="119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Lucida Sans Unicode"/>
              </a:rPr>
              <a:t>A Step-by-step Gui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4" name="Picture 4" descr="AMSA Logo.jpg"/>
          <p:cNvPicPr/>
          <p:nvPr/>
        </p:nvPicPr>
        <p:blipFill>
          <a:blip r:embed="rId1"/>
          <a:stretch/>
        </p:blipFill>
        <p:spPr>
          <a:xfrm>
            <a:off x="6172200" y="0"/>
            <a:ext cx="2857680" cy="781200"/>
          </a:xfrm>
          <a:prstGeom prst="rect">
            <a:avLst/>
          </a:prstGeom>
          <a:ln w="0">
            <a:noFill/>
          </a:ln>
        </p:spPr>
      </p:pic>
      <p:pic>
        <p:nvPicPr>
          <p:cNvPr id="285" name="Title 6" descr=""/>
          <p:cNvPicPr/>
          <p:nvPr/>
        </p:nvPicPr>
        <p:blipFill>
          <a:blip r:embed="rId2"/>
          <a:stretch/>
        </p:blipFill>
        <p:spPr>
          <a:xfrm>
            <a:off x="146160" y="1000080"/>
            <a:ext cx="5956200" cy="2212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"/>
          <p:cNvPicPr/>
          <p:nvPr/>
        </p:nvPicPr>
        <p:blipFill>
          <a:blip r:embed="rId3"/>
          <a:stretch/>
        </p:blipFill>
        <p:spPr>
          <a:xfrm>
            <a:off x="5638680" y="1066680"/>
            <a:ext cx="3219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05320" y="838080"/>
            <a:ext cx="5257800" cy="48150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3"/>
          <p:cNvSpPr/>
          <p:nvPr/>
        </p:nvSpPr>
        <p:spPr>
          <a:xfrm>
            <a:off x="76320" y="131760"/>
            <a:ext cx="9372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Your 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actions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will be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appreciated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recognized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"/>
          <p:cNvSpPr/>
          <p:nvPr/>
        </p:nvSpPr>
        <p:spPr>
          <a:xfrm>
            <a:off x="228600" y="1066680"/>
            <a:ext cx="3276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a00d6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0a00d6"/>
                </a:solidFill>
                <a:latin typeface="Arial"/>
              </a:rPr>
              <a:t>Health equity is within our REACH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6"/>
          <p:cNvSpPr/>
          <p:nvPr/>
        </p:nvSpPr>
        <p:spPr>
          <a:xfrm>
            <a:off x="5930280" y="5638680"/>
            <a:ext cx="25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w Physici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7"/>
          <p:cNvSpPr/>
          <p:nvPr/>
        </p:nvSpPr>
        <p:spPr>
          <a:xfrm>
            <a:off x="3897360" y="624852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SA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2"/>
          <a:srcRect l="0" t="0" r="0" b="17909"/>
          <a:stretch/>
        </p:blipFill>
        <p:spPr>
          <a:xfrm>
            <a:off x="457200" y="2790720"/>
            <a:ext cx="342900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are the actual needs of your intended audience? How will you assess them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ll local service providers for ideas on how pre-med or med students can help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et with community contacts and form partnershi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Discus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objective  and agenda specific to the needs of intended audien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at issue do you want to address?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o is your target audience?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o do you want involved in developing the project?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re will the project take place?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many participants are you expecting?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ld a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nterest meetin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(date?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tential Premed and Medical Student Collabor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ACH Grassroots Coordinator and Regional Coordinat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Inspiration exchange to reach other premed or medical chapters in your reg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2" name="Title 2" descr=""/>
          <p:cNvPicPr/>
          <p:nvPr/>
        </p:nvPicPr>
        <p:blipFill>
          <a:blip r:embed="rId1"/>
          <a:stretch/>
        </p:blipFill>
        <p:spPr>
          <a:xfrm>
            <a:off x="225360" y="23760"/>
            <a:ext cx="84679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hair or co-chair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mitte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17440" indent="-514080">
              <a:spcBef>
                <a:spcPts val="349"/>
              </a:spcBef>
              <a:buClr>
                <a:srgbClr val="c0504d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ordinators/ Planning Committe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17440" indent="-514080">
              <a:spcBef>
                <a:spcPts val="349"/>
              </a:spcBef>
              <a:buClr>
                <a:srgbClr val="c0504d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linical Committe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17440" indent="-514080">
              <a:spcBef>
                <a:spcPts val="349"/>
              </a:spcBef>
              <a:buClr>
                <a:srgbClr val="c0504d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acilities committe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17440" indent="-514080">
              <a:spcBef>
                <a:spcPts val="349"/>
              </a:spcBef>
              <a:buClr>
                <a:srgbClr val="c0504d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ocurement committe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17440" indent="-514080">
              <a:spcBef>
                <a:spcPts val="349"/>
              </a:spcBef>
              <a:buClr>
                <a:srgbClr val="c0504d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ood committe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17440" indent="-514080">
              <a:spcBef>
                <a:spcPts val="349"/>
              </a:spcBef>
              <a:buClr>
                <a:srgbClr val="c0504d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Volunteers committe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17440" indent="-514080">
              <a:spcBef>
                <a:spcPts val="349"/>
              </a:spcBef>
              <a:buClr>
                <a:srgbClr val="c0504d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ublic Relations committe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ecklist &amp; Timeline – date of health fai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gular Leadership Meetings- da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4" name="Title 2" descr=""/>
          <p:cNvPicPr/>
          <p:nvPr/>
        </p:nvPicPr>
        <p:blipFill>
          <a:blip r:embed="rId1"/>
          <a:stretch/>
        </p:blipFill>
        <p:spPr>
          <a:xfrm>
            <a:off x="225360" y="23760"/>
            <a:ext cx="84679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80880" y="1142640"/>
            <a:ext cx="83822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munity or vendor sponso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ub or community project fund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Fundraiser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MSA Gra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ternal corporate/foundation grants-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scuss potential donors and who to make contac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6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"/>
          <p:cNvPicPr/>
          <p:nvPr/>
        </p:nvPicPr>
        <p:blipFill>
          <a:blip r:embed="rId2"/>
          <a:stretch/>
        </p:blipFill>
        <p:spPr>
          <a:xfrm>
            <a:off x="6781680" y="228600"/>
            <a:ext cx="22003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7200" y="990720"/>
            <a:ext cx="8229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Design a 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flier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Distribute fliers to the target community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 Unicode"/>
              </a:rPr>
              <a:t>(translated if necessary!)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and volunteer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ontact the school or local newspaper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9" name="Title 2" descr=""/>
          <p:cNvPicPr/>
          <p:nvPr/>
        </p:nvPicPr>
        <p:blipFill>
          <a:blip r:embed="rId1"/>
          <a:stretch/>
        </p:blipFill>
        <p:spPr>
          <a:xfrm>
            <a:off x="146160" y="128520"/>
            <a:ext cx="874872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7200" y="114264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articipant evaluation-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rize can be given to encourage completio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xhibitors/ presenters evalu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Volunteer evalu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01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ubmit your project to the AMSA Local Project Databa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ider publishing your project in AMSA webpage or magazin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’s nice to thank participants publicl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roject leader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talk about their experiences at the next AMSA meeting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Write a letter for the dean’s office fi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cknowledging leaders’/participants’ succes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9:25:34Z</dcterms:created>
  <dc:creator>Lenovo User</dc:creator>
  <dc:description/>
  <dc:language>en-US</dc:language>
  <cp:lastModifiedBy>Cecilia</cp:lastModifiedBy>
  <dcterms:modified xsi:type="dcterms:W3CDTF">2010-09-19T22:21:10Z</dcterms:modified>
  <cp:revision>427</cp:revision>
  <dc:subject/>
  <dc:title>Why Join AMSA?</dc:title>
</cp:coreProperties>
</file>